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03CE-AA0D-4778-A424-6CE51C6D1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32B-9DDB-4B46-8C13-A4ADF11D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D527-22D6-4023-9E0A-E15A4247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E11-E86B-4EF8-B2DF-683ABF80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2F7B-D0E6-440E-A332-8250D869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030-852B-48C1-84AE-45904A0D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2FC6-2754-4E0E-8E4A-901DC877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DAC2-0FC2-4CCE-AF93-4A59052C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284-EDC4-4687-B009-B5C426D8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81D-AA7A-462D-BFFC-5C98F9D0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1BDB-1006-4707-A177-571DA200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DB92-0033-4E3C-88F4-31F6D6F0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B47-067C-47C3-97F6-451D3841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BD7E-A254-479A-A85F-ED8FFE581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Noel</cp:lastModifiedBy>
  <dcterms:modified xsi:type="dcterms:W3CDTF">2009-10-17T19:10:58Z</dcterms:modified>
  <cp:revision>5</cp:revision>
  <dc:subject/>
  <dc:title>Slide 1</dc:title>
</cp:coreProperties>
</file>